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A394-1FDC-476B-AAEA-0ECA6EB1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938-DB98-478D-B8B4-6EBE01A6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DCB1-C71F-4653-B5BC-444AADBD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3226-4BD7-4DAD-9AAA-FAB97523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1D0C-F1EB-4138-B189-621CD03D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B36B-D5C2-4811-A3FC-8C807059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D526-2E75-4BCF-98FF-BEAAF1F8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93A4-B060-48A2-B266-9470ECD1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28D4-EC4C-48CD-92C7-22BFE3ED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4456-2420-4417-BE6F-732732F6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395C-86FC-4F3F-B657-A6AD46BE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BF0-1BB9-475D-96D2-32FC8646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70D9-3E1A-4819-8E94-3F231FAD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C9DD-DFE4-4815-979B-47A0EDAB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DA19-B213-4EF2-A8D4-6E9522D8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81FD-1865-4D11-96BA-F90BAF8C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182F-D08B-4A1F-8160-03043084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80265-D985-4EF7-89D4-4704442C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08A65-75C1-471B-AA54-E16F987A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6FF41-9B17-4FED-BE68-695EC939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F4D4C-91E0-496D-9822-C79E74DD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DD42D-076F-4105-87D0-AE01CCE9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FB3-FC48-45B5-B724-68BF3D4C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88B63-BAFF-4A27-B46A-EE1A3482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27133-3607-4033-A3D5-560ADC0A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37436-491E-4B5D-8F1B-9E6B7275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BFD42-41A6-4C7C-87E1-874438A8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EEBD5-939D-41FF-BEEE-86358F6F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2F80C-68C2-47E7-922D-83F8E9C5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7E32E-BBAD-4B46-AE3C-E06CA7C3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059F1-2A92-440A-B28C-A1E0FB83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EADC0-96FB-4292-8346-1892107C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E3126-45CA-45E9-BD8C-01102C9D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1F6-2EE7-425F-9037-4EAE2C16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7E18D-0877-4CBC-A180-396A7248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6CA30-8CDA-4D3E-AB1D-AC4BFD03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28EC7-8B05-4434-B5AA-B6F9E519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D7F6C-1432-4E2F-857E-54B4043E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2C3DC-360D-49A6-817E-7BBCE800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BC829-BD15-43C5-89B2-95CDA6E4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9F6B1-15DA-4668-B2E5-3BEE1AAE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C4CC5-8FC1-4DC9-B805-DE130267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1AEF1-1F67-4E2F-AF6A-AE558F68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1EEE2-A392-44EC-AE91-E3255F2D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A96D-657D-49B6-8933-C167E3F6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77075-9BF5-44BA-860D-3971DED4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207DA-2F49-4E20-9473-F2C9EA21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BD627-4CAF-40E2-ACDF-453CF2D9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46A7A-3625-4F33-88B8-9D9FBF19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45629-E254-42CF-B063-8BE35E61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49EE2-0136-4029-85AC-2C732F05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0E26C-0301-4E09-B64A-4693EDE2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4BA67-5017-4F96-986C-016B64A8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467E7-B501-4B59-B082-3C154031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584D6-7124-4A1F-AE26-F5FE92FD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081C-B9B6-4275-8FE2-B1AD1986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B55E1-4115-4FE7-84B3-0D251F0A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60F73-7B0A-40A4-8B54-A5EC86D0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E383D-853E-4014-9691-B5681A76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354B5-8992-480E-806A-8186330A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CCC53-C1C8-4CA3-9631-F451209E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2B739-D2DB-447E-9CCA-FE87D966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1F3DD-CC88-47A7-94D9-B2323130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3F684-907F-4BAF-9FE3-237C29E7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AC157-8846-4FB8-B595-92739B2F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9C528-9AB5-4E5D-9B6C-7F47E042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F31D-83CF-45BC-8C9F-0C6F01B1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9A8BB-D729-4025-8AE9-3DC348E1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B8BEF-ACF4-4D61-A535-F5C546EB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B8898-AE1B-4602-BF28-36F2C788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EF597-D922-4211-BEB3-3F48FD9C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FC8EA-C65C-48E0-A8F2-73F7AC22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27167-C559-4D17-8D6A-C8AC5A2D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C36DE-E680-41A8-939B-B27DB4CB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3D6BC-EBC8-4C1B-871A-5A9ED798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AF26E-654F-49AC-B865-8C94EE05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0031C-D979-4543-BC3E-1D7C5D6B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23C-1D51-4F00-8BFE-F986E56A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94A67-F8E7-4083-9171-7D364D82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0C8CA-9567-42D1-AC39-BE01822F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3EBE6-718E-44BE-8EED-7994483A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D6B63-CAD0-4241-A4DD-32429FF1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482E8-DBD3-4049-851A-25EAF533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8C1-86DD-4494-B9E5-A2BBFF4A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E1B9-C1E0-490D-AC42-07C54F8A7576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직사각형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4B29-7914-4272-B95C-435CF6468680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8859-7E4A-409F-9EF9-6D8CAEEDCCCB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5986-4317-48E3-986D-8892EDA1158E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직사각형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A5CD-19F5-48D4-B75D-12D9E8FAB4B9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직사각형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직사각형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BF51-8555-496A-9A59-FE44FAFBB510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직사각형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직사각형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F0BA-A285-4DAF-874C-3846F0B104DC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1. Sample Types &amp; Considering Factors for Collec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Sample Type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physical conditions ; solid, liquid, or gas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representativeness; bulk, partial, or mixed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conventional names; Rock, soil, stream water, groundwater, coal, plant, food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 essential requisite for the sample is the </a:t>
            </a:r>
            <a:r>
              <a:rPr b="1" lang="en-US" sz="1700" spc="-1" strike="noStrike">
                <a:solidFill>
                  <a:srgbClr val="ff0000"/>
                </a:solidFill>
                <a:latin typeface="Corbel"/>
              </a:rPr>
              <a:t>representativeness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of the object of sampling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n,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urpose of sampling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Budget  for  the analysis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haracteristics (Types) of the sample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VAN_VEEN"/>
          <p:cNvPicPr/>
          <p:nvPr/>
        </p:nvPicPr>
        <p:blipFill>
          <a:blip r:embed="rId1"/>
          <a:stretch/>
        </p:blipFill>
        <p:spPr>
          <a:xfrm>
            <a:off x="179280" y="0"/>
            <a:ext cx="4284720" cy="41371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tools_vanveen_en_162213"/>
          <p:cNvPicPr/>
          <p:nvPr/>
        </p:nvPicPr>
        <p:blipFill>
          <a:blip r:embed="rId2"/>
          <a:stretch/>
        </p:blipFill>
        <p:spPr>
          <a:xfrm>
            <a:off x="179280" y="3860640"/>
            <a:ext cx="3048120" cy="2800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alpinevirbracore2"/>
          <p:cNvPicPr/>
          <p:nvPr/>
        </p:nvPicPr>
        <p:blipFill>
          <a:blip r:embed="rId3"/>
          <a:stretch/>
        </p:blipFill>
        <p:spPr>
          <a:xfrm>
            <a:off x="3419640" y="2852640"/>
            <a:ext cx="2743200" cy="3505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K-B"/>
          <p:cNvPicPr/>
          <p:nvPr/>
        </p:nvPicPr>
        <p:blipFill>
          <a:blip r:embed="rId4"/>
          <a:stretch/>
        </p:blipFill>
        <p:spPr>
          <a:xfrm>
            <a:off x="6227640" y="836640"/>
            <a:ext cx="2552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Mostly depends on the distribution of the sedimen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y similar to the soil sample treatm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fraction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5. Rock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ock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Weather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in size: generally sample size should be 60 times larger than the grain size ex) &lt;1/16cm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 3*4*1 cm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ucture &amp; textur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Hamm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hiesl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2. Collection &amp; Pretreatment of Water Sampl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Water samples?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urface water (Streams, lakes, springs, etc.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Groundwat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Meteoric water (rain, snow, fog, etc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 of water sampling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Variable properties responding to a number of surrounding conditions such as T, P, time, biota, geology,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hould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ater typ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arameters measured in the field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quired pretreat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Geological &amp; Hydrological condition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Temporal &amp; spatial varia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440"/>
            <a:ext cx="2890800" cy="1582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Methods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Scoo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Grab sampl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Bailor / Bomb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Pum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2" descr="http://www.korearth.net/lecture/geochem/gchem_anal/ch03/w_scoop.jpg"/>
          <p:cNvPicPr/>
          <p:nvPr/>
        </p:nvPicPr>
        <p:blipFill>
          <a:blip r:embed="rId2"/>
          <a:stretch/>
        </p:blipFill>
        <p:spPr>
          <a:xfrm>
            <a:off x="3419640" y="1773360"/>
            <a:ext cx="1285560" cy="1285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http://www.korearth.net/lecture/geochem/gchem_anal/ch03/bailer1.gif"/>
          <p:cNvPicPr/>
          <p:nvPr/>
        </p:nvPicPr>
        <p:blipFill>
          <a:blip r:embed="rId3"/>
          <a:stretch/>
        </p:blipFill>
        <p:spPr>
          <a:xfrm>
            <a:off x="3059280" y="2997360"/>
            <a:ext cx="1820520" cy="3698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http://www.korearth.net/lecture/geochem/gchem_anal/ch03/w_bomb.gif"/>
          <p:cNvPicPr/>
          <p:nvPr/>
        </p:nvPicPr>
        <p:blipFill>
          <a:blip r:embed="rId4"/>
          <a:stretch/>
        </p:blipFill>
        <p:spPr>
          <a:xfrm>
            <a:off x="826920" y="3573360"/>
            <a:ext cx="2219400" cy="2743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http://www.korearth.net/lecture/geochem/gchem_anal/ch03/s_pump2.jpg"/>
          <p:cNvPicPr/>
          <p:nvPr/>
        </p:nvPicPr>
        <p:blipFill>
          <a:blip r:embed="rId5"/>
          <a:stretch/>
        </p:blipFill>
        <p:spPr>
          <a:xfrm>
            <a:off x="6084720" y="3716280"/>
            <a:ext cx="2876760" cy="2914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www.korearth.net/lecture/geochem/gchem_anal/ch03/w_grab.jpg"/>
          <p:cNvPicPr/>
          <p:nvPr/>
        </p:nvPicPr>
        <p:blipFill>
          <a:blip r:embed="rId6"/>
          <a:stretch/>
        </p:blipFill>
        <p:spPr>
          <a:xfrm>
            <a:off x="4859280" y="1844640"/>
            <a:ext cx="23767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Pretreatment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Filt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Removal of SS &amp; (microbes),  with 0.1, 0.2 or 0.4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m pore membran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Acidific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Prohibiting pptn of the DS, with HNO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Steriliz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Killing all the microbes, with HgCl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Refrige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Supress microbial activity at 4C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2" descr="http://www.korearth.net/lecture/geochem/gchem_anal/ch03/filter_app.jpg"/>
          <p:cNvPicPr/>
          <p:nvPr/>
        </p:nvPicPr>
        <p:blipFill>
          <a:blip r:embed="rId2"/>
          <a:stretch/>
        </p:blipFill>
        <p:spPr>
          <a:xfrm>
            <a:off x="1476360" y="3716280"/>
            <a:ext cx="3017880" cy="3017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http://www.korearth.net/lecture/geochem/gchem_anal/ch03/hand_vac.jpg"/>
          <p:cNvPicPr/>
          <p:nvPr/>
        </p:nvPicPr>
        <p:blipFill>
          <a:blip r:embed="rId3"/>
          <a:stretch/>
        </p:blipFill>
        <p:spPr>
          <a:xfrm>
            <a:off x="4500720" y="3860640"/>
            <a:ext cx="3914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3. Soil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profil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s &amp; local geolog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lant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Land us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hovel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Aug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moistu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hand1_l-soil-sampling-auger-water-level"/>
          <p:cNvPicPr/>
          <p:nvPr/>
        </p:nvPicPr>
        <p:blipFill>
          <a:blip r:embed="rId1"/>
          <a:stretch/>
        </p:blipFill>
        <p:spPr>
          <a:xfrm>
            <a:off x="250920" y="260280"/>
            <a:ext cx="4286160" cy="4324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10_b"/>
          <p:cNvPicPr/>
          <p:nvPr/>
        </p:nvPicPr>
        <p:blipFill>
          <a:blip r:embed="rId2"/>
          <a:stretch/>
        </p:blipFill>
        <p:spPr>
          <a:xfrm>
            <a:off x="395280" y="40006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23_Soil-Sampling_3col"/>
          <p:cNvPicPr/>
          <p:nvPr/>
        </p:nvPicPr>
        <p:blipFill>
          <a:blip r:embed="rId3"/>
          <a:stretch/>
        </p:blipFill>
        <p:spPr>
          <a:xfrm>
            <a:off x="4714920" y="404640"/>
            <a:ext cx="4429080" cy="281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VL_sampler"/>
          <p:cNvPicPr/>
          <p:nvPr/>
        </p:nvPicPr>
        <p:blipFill>
          <a:blip r:embed="rId4"/>
          <a:stretch/>
        </p:blipFill>
        <p:spPr>
          <a:xfrm>
            <a:off x="3851280" y="3408480"/>
            <a:ext cx="50878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Barbell clus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Nested Cel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atified vs. unstratifi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ry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ev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emoval of organic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nd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image008"/>
          <p:cNvPicPr/>
          <p:nvPr/>
        </p:nvPicPr>
        <p:blipFill>
          <a:blip r:embed="rId1"/>
          <a:stretch/>
        </p:blipFill>
        <p:spPr>
          <a:xfrm>
            <a:off x="684360" y="1989000"/>
            <a:ext cx="3744720" cy="3044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mt89illust1"/>
          <p:cNvPicPr/>
          <p:nvPr/>
        </p:nvPicPr>
        <p:blipFill>
          <a:blip r:embed="rId2"/>
          <a:stretch/>
        </p:blipFill>
        <p:spPr>
          <a:xfrm>
            <a:off x="5364000" y="2060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2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4. Sediment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patial (horizontal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tical (depth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distribu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Temporal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edimentation mechanism (sedimentation media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isturbance by sampl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al rock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1:44:53Z</dcterms:created>
  <dc:creator>user</dc:creator>
  <dc:description/>
  <dc:language>en-US</dc:language>
  <cp:lastModifiedBy>user</cp:lastModifiedBy>
  <dcterms:modified xsi:type="dcterms:W3CDTF">2011-11-14T23:57:18Z</dcterms:modified>
  <cp:revision>27</cp:revision>
  <dc:subject/>
  <dc:title>Ch. 2. BASICS of GEOCHEMICAL ANALYSIS</dc:title>
</cp:coreProperties>
</file>